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15B7-43DD-4552-818A-058B7B964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204F-5BB1-44ED-AF23-D366CA9B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02F2-A588-4DC3-8497-76EC55DC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76C-B669-4C49-8B52-E54DDDBF5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DC28-3858-425B-B3CB-C500B131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18D-2CAC-4A37-BF88-524627AAF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A4B-740A-4F6A-A180-E72C049D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6FB-7232-4970-ADF8-3AADD88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48E-94D9-4EFB-90BD-8013C280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7FD-2F0A-4E32-AD3E-D2926BDC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6EB-71A4-4B6C-AFD8-1C7401E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24B-838D-4106-A628-CE931A6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95D-CA1E-469B-9636-7BA7A77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45E-396A-4539-889C-A8D4E889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793-9F76-4078-88CF-D87B1B25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E91-0BDF-44B4-ADCC-94C2311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B0B-179A-4C18-B019-A9CEF60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B02-3506-4904-982F-D69ECC0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0BE-D7A5-48A3-8497-C88CDDA36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6" descr="Picture 2.png"/>
          <p:cNvPicPr/>
          <p:nvPr/>
        </p:nvPicPr>
        <p:blipFill>
          <a:blip r:embed="rId1"/>
          <a:stretch/>
        </p:blipFill>
        <p:spPr>
          <a:xfrm>
            <a:off x="0" y="1219320"/>
            <a:ext cx="4856040" cy="3733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would happen to the simple system if you made the hole in the restriction in pipe 4 larg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952880" y="3733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Water would move from Container B to Container C at a faste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3520" y="5638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water would stay in container B for less time.  Therefore there is a decreas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dence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water in container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8" name="Picture 6" descr="Picture 2.png"/>
          <p:cNvPicPr/>
          <p:nvPr/>
        </p:nvPicPr>
        <p:blipFill>
          <a:blip r:embed="rId1"/>
          <a:stretch/>
        </p:blipFill>
        <p:spPr>
          <a:xfrm>
            <a:off x="0" y="1219320"/>
            <a:ext cx="4856040" cy="3733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change in the water cycle would be analogous to increasing the size of the hole in Pipe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9528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Increasing the rate of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Gas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0" name="Picture 6" descr="Picture 2.png"/>
          <p:cNvPicPr/>
          <p:nvPr/>
        </p:nvPicPr>
        <p:blipFill>
          <a:blip r:embed="rId1"/>
          <a:stretch/>
        </p:blipFill>
        <p:spPr>
          <a:xfrm>
            <a:off x="2514600" y="685800"/>
            <a:ext cx="4114800" cy="31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Picture 2.png"/>
          <p:cNvPicPr/>
          <p:nvPr/>
        </p:nvPicPr>
        <p:blipFill>
          <a:blip r:embed="rId1"/>
          <a:stretch/>
        </p:blipFill>
        <p:spPr>
          <a:xfrm>
            <a:off x="1422360" y="2262240"/>
            <a:ext cx="6273720" cy="4824360"/>
          </a:xfrm>
          <a:prstGeom prst="rect">
            <a:avLst/>
          </a:prstGeom>
          <a:ln w="0">
            <a:noFill/>
          </a:ln>
        </p:spPr>
      </p:pic>
      <p:cxnSp>
        <p:nvCxnSpPr>
          <p:cNvPr id="76" name="Straight Arrow Connector 5"/>
          <p:cNvCxnSpPr/>
          <p:nvPr/>
        </p:nvCxnSpPr>
        <p:spPr>
          <a:xfrm>
            <a:off x="3885120" y="2438280"/>
            <a:ext cx="1080" cy="9151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77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78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9343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iquid Water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7238880" y="4876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ecipitation Reaching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Water Stored in L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312408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7391520" y="4049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Straight Arrow Connector 19"/>
          <p:cNvCxnSpPr/>
          <p:nvPr/>
        </p:nvCxnSpPr>
        <p:spPr>
          <a:xfrm flipH="1">
            <a:off x="6247800" y="4267080"/>
            <a:ext cx="1143720" cy="766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86" name="Straight Arrow Connector 21"/>
          <p:cNvCxnSpPr/>
          <p:nvPr/>
        </p:nvCxnSpPr>
        <p:spPr>
          <a:xfrm>
            <a:off x="1447920" y="4572000"/>
            <a:ext cx="838800" cy="784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20:43:51Z</dcterms:created>
  <dc:creator>Julie Libarkin</dc:creator>
  <dc:description/>
  <dc:language>en-US</dc:language>
  <cp:lastModifiedBy>Nicole LaDue</cp:lastModifiedBy>
  <dcterms:modified xsi:type="dcterms:W3CDTF">2010-12-17T22:21:36Z</dcterms:modified>
  <cp:revision>296</cp:revision>
  <dc:subject/>
  <dc:title>PowerPoint Presentation</dc:title>
</cp:coreProperties>
</file>